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BCC-3867-4853-8345-A7911B9B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1E6-2655-4F22-9157-9894CB7C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E37-98D8-4694-B4C9-40100D89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679-504F-4D83-9895-F468DAD2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9BB-2139-4E62-8CAB-A2DC1770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70B-8F48-4425-98AB-DE099F7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6A36-B7BC-415D-A7D8-439435F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26DD-3764-4F78-81F7-C6F2EED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E4F1-99BB-4B02-A780-423DEAD3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1CDA-9A34-4EDC-BE18-C4097EE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5946-8FD3-4143-8248-CB7ED8E7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FE7-D381-48C3-A52B-51A4670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401E-066C-4E9F-BBF0-229737A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060-1FD8-4B24-ABF7-4E44E3C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9F0-738F-4CBE-8816-8CA9B194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6EE-0C68-4082-A26A-1C072AB4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A42-F833-46C5-8F6D-04AEC9FA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7D5-F31B-400D-8354-40ED7C1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FAB-C5AA-44FF-9FB8-D017581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F03-5CDA-4AA5-A7F0-BE9D1C87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C03-644A-424F-A39E-56437F9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264-4EF8-41BE-9CFD-6F74AC6A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870-608F-4EB2-BA0D-8656625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AC5-8300-4FD7-883E-428C9A6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EA1-DB3E-4208-B71C-DD94BE4A9EF1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0035-A33F-4721-9BC3-042AC3D22778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8221b"/>
                </a:solidFill>
                <a:latin typeface="Waltograph"/>
              </a:rPr>
              <a:t>Dear Canada Turned Away</a:t>
            </a:r>
            <a:r>
              <a:rPr b="0" lang="en-US" sz="4400" spc="-1" strike="noStrike">
                <a:solidFill>
                  <a:srgbClr val="48221b"/>
                </a:solidFill>
                <a:latin typeface="Waltograph"/>
              </a:rPr>
              <a:t> 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altograph"/>
              </a:rPr>
              <a:t>Avery Brown Social Studies book project</a:t>
            </a:r>
            <a:endParaRPr b="0" lang="en-US" sz="4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Winnipeg, Manitoba, 1941</a:t>
            </a:r>
            <a:endParaRPr b="0" lang="en-US" sz="6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25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During world war II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SzPct val="1285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Canada- looking better than other countries 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SzPct val="1285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Jews are being captured/taken away to camps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 </a:t>
            </a: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Devorah Bernstein</a:t>
            </a:r>
            <a:endParaRPr b="0" lang="en-US" sz="6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11 year old in a Jewish family 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Brothers away in Hong Kong fighting in war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Writes letters to her brothers and cousin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lvl="1" marL="572040" indent="-219960">
              <a:lnSpc>
                <a:spcPct val="100000"/>
              </a:lnSpc>
              <a:spcBef>
                <a:spcPts val="950"/>
              </a:spcBef>
              <a:buSzPct val="1285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Cousin is on the run/hiding from German’s in Europe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lvl="1" marL="572040" indent="-219960">
              <a:lnSpc>
                <a:spcPct val="100000"/>
              </a:lnSpc>
              <a:spcBef>
                <a:spcPts val="799"/>
              </a:spcBef>
              <a:buSzPct val="1285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Cousin’s letters keep getting worse news</a:t>
            </a:r>
            <a:r>
              <a:rPr b="0" lang="en-US" sz="3200" spc="-1" strike="noStrike">
                <a:solidFill>
                  <a:srgbClr val="000000"/>
                </a:solidFill>
                <a:latin typeface="Waltograp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21b"/>
                </a:solidFill>
                <a:latin typeface="Waltograph"/>
              </a:rPr>
              <a:t>News of the Canadian Soldiers</a:t>
            </a:r>
            <a:endParaRPr b="0" lang="en-US" sz="5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Newspapers- informing soldiers families of there whereabouts/happenings in war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Devorah’s brother in Hong Ko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Japenese taken over 700 prisoners- most Canadia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Devorah’s brothers picture in Newspaper- as one to serve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3" marL="1263960" indent="-180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They know he’s still aliv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In paper- 296 dead/1,985 taken prisoner in Hong Ko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SzPct val="1388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Telegram comes for Devorah’s family- her brother is missi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48221b"/>
                </a:solidFill>
                <a:latin typeface="Waltograph"/>
              </a:rPr>
              <a:t>Letters from Sarah</a:t>
            </a:r>
            <a:endParaRPr b="0" lang="en-US" sz="7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75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Waltograph"/>
              </a:rPr>
              <a:t>Sarah (Devorah’s cousin)- also Jew</a:t>
            </a:r>
            <a:endParaRPr b="0" lang="en-US" sz="39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Sarah tells Devorah what she has heard happen to the Jews taken away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Later- Sarah’s dad taken away by German in the middle of the night 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altograph"/>
              </a:rPr>
              <a:t>She is scared that her dad had been killed after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Sarah wants Devorah to help them out/get them to Canada where they will be safe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48221b"/>
                </a:solidFill>
                <a:latin typeface="Waltograph"/>
              </a:rPr>
              <a:t>Scene in Manitoba</a:t>
            </a:r>
            <a:endParaRPr b="0" lang="en-US" sz="82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Nazis came to children’s school to take away Jewish kids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Streets are unsafe- needed to stay in one place at a time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Families worried about relatives/other family members out in war 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lvl="1" marL="601560" indent="-231480">
              <a:lnSpc>
                <a:spcPct val="90000"/>
              </a:lnSpc>
              <a:spcBef>
                <a:spcPts val="950"/>
              </a:spcBef>
              <a:buSzPct val="1285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Some already have died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20:31:50Z</dcterms:created>
  <dc:creator>Jay Brown</dc:creator>
  <dc:description/>
  <dc:language>en-US</dc:language>
  <cp:lastModifiedBy>BrownAv</cp:lastModifiedBy>
  <dcterms:modified xsi:type="dcterms:W3CDTF">2010-05-25T18:03:34Z</dcterms:modified>
  <cp:revision>4</cp:revision>
  <dc:subject/>
  <dc:title>Dear Canada Turned Away  </dc:title>
</cp:coreProperties>
</file>